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8C826-CBAF-46C6-9811-2BFDB870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440" y="341352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098B1-BC35-4D85-A648-6481F1A0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568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69B57-0377-4287-AAA7-67CE5D93D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344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0644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344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EDE5-BE5E-42C8-A997-DA844F74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67905-664A-4B3E-84A5-275B1531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D0CFD-218F-4A02-BD43-A6C06EE3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DEE29-C1F1-47F5-AB94-12A751F7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233F7-D562-4534-97E8-AD2E0484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51556-2934-43CA-A535-F00A53F6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93840" y="0"/>
            <a:ext cx="83692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CCBF5-ADCE-4049-B03B-0774301E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35F7F-E936-43FC-A8B9-2649A35C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1ECD-493A-4614-85A1-57655129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568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CC0C8-9CE2-4DDA-88A2-DFE914D0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6B330-6A8D-4D67-851E-26E5B856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440" y="341352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A53FB-362B-4D21-9CEC-B3E3E131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568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9A767-22FE-4142-A324-877A80863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2344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0080" y="134280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644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2344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0080" y="3413520"/>
            <a:ext cx="268236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903A2-6E15-44B9-A38D-A91481A36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A48C8-1696-4284-A37D-83A759CE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9EBF-9356-48F4-865E-5CCB7970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E126B-D0C1-4F0D-B291-7AA83606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3840" y="0"/>
            <a:ext cx="83692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5814-EC50-4300-AA04-2FC22CDA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54F0E-E9A5-4604-BDD3-86ACDD94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5680" y="341352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795A3-B2A6-4720-A37D-A6287522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44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5680" y="1342800"/>
            <a:ext cx="406548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06440" y="3413520"/>
            <a:ext cx="833112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B39BB-A1CD-4A27-9F87-55202009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b9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5929200"/>
            <a:ext cx="9150480" cy="928800"/>
          </a:xfrm>
          <a:prstGeom prst="pie">
            <a:avLst/>
          </a:prstGeom>
          <a:solidFill>
            <a:srgbClr val="003b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2"/>
          <a:stretch/>
        </p:blipFill>
        <p:spPr>
          <a:xfrm>
            <a:off x="0" y="5586480"/>
            <a:ext cx="9144000" cy="120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25960" y="6606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9F8E-DD72-4E55-A32D-724BAAF959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8520" y="6606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406440" y="6606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3"/>
          <a:stretch/>
        </p:blipFill>
        <p:spPr>
          <a:xfrm>
            <a:off x="5514840" y="6356520"/>
            <a:ext cx="2664000" cy="260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0" y="787320"/>
            <a:ext cx="9144000" cy="66600"/>
          </a:xfrm>
          <a:prstGeom prst="rect">
            <a:avLst/>
          </a:prstGeom>
          <a:solidFill>
            <a:srgbClr val="db0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2"/>
          <p:cNvSpPr/>
          <p:nvPr/>
        </p:nvSpPr>
        <p:spPr>
          <a:xfrm>
            <a:off x="0" y="5929200"/>
            <a:ext cx="9150480" cy="928800"/>
          </a:xfrm>
          <a:prstGeom prst="pie">
            <a:avLst/>
          </a:prstGeom>
          <a:solidFill>
            <a:srgbClr val="003b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5586480"/>
            <a:ext cx="9144000" cy="1201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5514840" y="6356520"/>
            <a:ext cx="2664000" cy="2602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0" y="787320"/>
            <a:ext cx="9144000" cy="66600"/>
          </a:xfrm>
          <a:prstGeom prst="rect">
            <a:avLst/>
          </a:prstGeom>
          <a:solidFill>
            <a:srgbClr val="db0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11" descr=""/>
          <p:cNvPicPr/>
          <p:nvPr/>
        </p:nvPicPr>
        <p:blipFill>
          <a:blip r:embed="rId4"/>
          <a:stretch/>
        </p:blipFill>
        <p:spPr>
          <a:xfrm>
            <a:off x="401760" y="222120"/>
            <a:ext cx="5155920" cy="38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3b9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b9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4"/>
          </p:nvPr>
        </p:nvSpPr>
        <p:spPr>
          <a:xfrm>
            <a:off x="6825960" y="66067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CFBE-A113-4C2A-B35E-38682E3BC80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098520" y="66067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dt" idx="6"/>
          </p:nvPr>
        </p:nvSpPr>
        <p:spPr>
          <a:xfrm>
            <a:off x="406440" y="6606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06440" y="4017960"/>
            <a:ext cx="83311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06440" y="1522440"/>
            <a:ext cx="8331120" cy="20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3b90"/>
                </a:solidFill>
                <a:latin typeface="Arial"/>
              </a:rPr>
              <a:t>The Development of Masters Programmes at Kingston University</a:t>
            </a:r>
            <a:endParaRPr b="1" lang="en-US" sz="33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The Module Directory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The key elements of module syllabi expressed here are: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Number of credit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Module Aims and Outcome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Curriculum conten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The Module Directory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Teaching and Learning Strategy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Assessment Strategy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Major categories of assessmen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Resources Document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Physical resources 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Staff CV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Details of the management arrangements for the field(s)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Case Studies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Developing a new Masters programme: the A2 document for the MA Language and Society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The Programme Specification: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b90"/>
                </a:solidFill>
                <a:latin typeface="Arial"/>
              </a:rPr>
              <a:t>MA Media and Communication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b90"/>
                </a:solidFill>
                <a:latin typeface="Arial"/>
              </a:rPr>
              <a:t>MA film-making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b90"/>
                </a:solidFill>
                <a:latin typeface="Arial"/>
              </a:rPr>
              <a:t>MA Film Studies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Introduction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Personnel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What do you want from this Training Workshop?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Proposals for Developing new Degrees: Faculty level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00040" y="128556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Developmental stages at Faculty level: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Discussion at BO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Consultation with HO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PRDG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Proposals for Developing new Degrees: Faculty level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Course proposals must fulfil as many as possible of the following criteria: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Verifiable evidence of demand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Ability to attract an enhanced fee and/or international student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Minimum resource implications in delivery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Minimum resource implications in marketing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A fit with FASS strategic prioritie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Proposals for Developing new Degrees: University level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Academic Quality and Standards (AQS)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b90"/>
                </a:solidFill>
                <a:latin typeface="Arial"/>
              </a:rPr>
              <a:t>Department submits documentation making case for new course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db0399"/>
              </a:buClr>
              <a:buSzPct val="7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b90"/>
                </a:solidFill>
                <a:latin typeface="Arial"/>
              </a:rPr>
              <a:t>Outline of the proposed programme</a:t>
            </a:r>
            <a:endParaRPr b="0" lang="en-US" sz="2400" spc="-1" strike="noStrike">
              <a:solidFill>
                <a:srgbClr val="003b9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db0399"/>
              </a:buClr>
              <a:buSzPct val="7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b90"/>
                </a:solidFill>
                <a:latin typeface="Arial"/>
              </a:rPr>
              <a:t>Link to the University and Faculty strategic plans</a:t>
            </a:r>
            <a:endParaRPr b="0" lang="en-US" sz="2400" spc="-1" strike="noStrike">
              <a:solidFill>
                <a:srgbClr val="003b9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db0399"/>
              </a:buClr>
              <a:buSzPct val="7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b90"/>
                </a:solidFill>
                <a:latin typeface="Arial"/>
              </a:rPr>
              <a:t>Evidence of demand</a:t>
            </a:r>
            <a:endParaRPr b="0" lang="en-US" sz="2400" spc="-1" strike="noStrike">
              <a:solidFill>
                <a:srgbClr val="003b9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db0399"/>
              </a:buClr>
              <a:buSzPct val="7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b90"/>
                </a:solidFill>
                <a:latin typeface="Arial"/>
              </a:rPr>
              <a:t>Projected numbers</a:t>
            </a:r>
            <a:endParaRPr b="0" lang="en-US" sz="2400" spc="-1" strike="noStrike">
              <a:solidFill>
                <a:srgbClr val="003b9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db0399"/>
              </a:buClr>
              <a:buSzPct val="7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b90"/>
                </a:solidFill>
                <a:latin typeface="Arial"/>
              </a:rPr>
              <a:t>Resource implications</a:t>
            </a:r>
            <a:endParaRPr b="0" lang="en-US" sz="2400" spc="-1" strike="noStrike">
              <a:solidFill>
                <a:srgbClr val="003b90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b90"/>
                </a:solidFill>
                <a:latin typeface="Arial"/>
              </a:rPr>
              <a:t>Decide whether Faculty or University validation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db0399"/>
              </a:buClr>
              <a:buSzPct val="7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9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db0399"/>
              </a:buClr>
              <a:buSzPct val="7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9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db039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Evidence of Demand</a:t>
            </a: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	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3b90"/>
                </a:solidFill>
                <a:latin typeface="Arial"/>
              </a:rPr>
              <a:t>The trend in applications and enrolments (UG and PG)</a:t>
            </a:r>
            <a:endParaRPr b="0" lang="en-US" sz="30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b90"/>
                </a:solidFill>
                <a:latin typeface="Arial"/>
              </a:rPr>
              <a:t>Competitor Analysis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b90"/>
                </a:solidFill>
                <a:latin typeface="Arial"/>
              </a:rPr>
              <a:t>Drivers of growth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3b90"/>
                </a:solidFill>
                <a:latin typeface="Arial"/>
              </a:rPr>
              <a:t>Student profile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Employer Demand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Market Research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Planning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Planning meeting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Programme Specification documen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Module Directory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Resources documen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Programme Specification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06440" y="134280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Features of the field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Field Aims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Field Learning outcomes, differentiated by full- or half-field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3b90"/>
                </a:solidFill>
                <a:latin typeface="Arial"/>
              </a:rPr>
              <a:t>Knowledge and Understanding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3b90"/>
                </a:solidFill>
                <a:latin typeface="Arial"/>
              </a:rPr>
              <a:t>Cognitive Skills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3b90"/>
                </a:solidFill>
                <a:latin typeface="Arial"/>
              </a:rPr>
              <a:t>Practical Skills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db03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3b90"/>
                </a:solidFill>
                <a:latin typeface="Arial"/>
              </a:rPr>
              <a:t>Key Skills</a:t>
            </a:r>
            <a:endParaRPr b="0" lang="en-US" sz="26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3840" y="0"/>
            <a:ext cx="836928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3b90"/>
                </a:solidFill>
                <a:latin typeface="Arial"/>
              </a:rPr>
              <a:t>Programme Specification</a:t>
            </a:r>
            <a:endParaRPr b="1" lang="en-US" sz="2900" spc="-1" strike="noStrike">
              <a:solidFill>
                <a:srgbClr val="003b9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1356840"/>
            <a:ext cx="833112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Field Structure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b03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b90"/>
                </a:solidFill>
                <a:latin typeface="Arial"/>
              </a:rPr>
              <a:t>Teaching, Learning &amp; Assessment</a:t>
            </a:r>
            <a:endParaRPr b="0" lang="en-US" sz="2800" spc="-1" strike="noStrike">
              <a:solidFill>
                <a:srgbClr val="003b9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4:48:44Z</dcterms:created>
  <dc:creator>KU01577</dc:creator>
  <dc:description/>
  <dc:language>en-US</dc:language>
  <cp:lastModifiedBy>FASS</cp:lastModifiedBy>
  <dcterms:modified xsi:type="dcterms:W3CDTF">2011-04-12T08:48:44Z</dcterms:modified>
  <cp:revision>36</cp:revision>
  <dc:subject/>
  <dc:title>QA for the Development of Masters Programmes</dc:title>
</cp:coreProperties>
</file>