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693E-2840-4457-9917-07CA5958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F382-E3FE-48AF-ADC1-37A9047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85F9-BF99-4DAC-93A4-C60C8AAA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50C5-20D1-4CBB-8745-2333DE4C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A0EEF-C9A6-43F7-A056-9285A2D0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ABD4E-DD5D-45D1-84EE-55115035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2284A-FFE4-4A82-8E7F-F70E529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1FA77-A154-4D2D-97A9-21F11CFB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BA874-CCB8-49B6-913A-FC61CADA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3A98-720F-494D-8818-0BBE6CED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52A78-9274-4DD6-A2D0-EAFFE83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E970-19AB-418E-BCDB-9433E9C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088C2-4F8C-41A8-96C2-D054A831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349CA-64F7-45FE-BE7E-45B33BB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37C86-7F81-4DC0-BF8F-56C1C75F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96E23-0FF9-499F-BEDD-E19A076C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419E6-DE2B-4D07-ACA4-F3713F0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1760-A0E7-4F22-8BA2-B57D2A6B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7263-696A-4F69-88C3-3C1B190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A6B1-65EB-4780-B5A0-C39BE251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A0B1-B8B9-4550-8B9A-4E44E65A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A077-0818-4EE1-8030-8E39BF22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47A5-8368-4DED-AA23-60F4032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60A0-6D2E-412F-85CD-F88272A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5929200"/>
            <a:ext cx="9150480" cy="9288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764" h="585">
                <a:moveTo>
                  <a:pt x="2" y="170"/>
                </a:moveTo>
                <a:cubicBezTo>
                  <a:pt x="278" y="222"/>
                  <a:pt x="166" y="208"/>
                  <a:pt x="277" y="228"/>
                </a:cubicBezTo>
                <a:cubicBezTo>
                  <a:pt x="387" y="245"/>
                  <a:pt x="456" y="260"/>
                  <a:pt x="529" y="272"/>
                </a:cubicBezTo>
                <a:cubicBezTo>
                  <a:pt x="601" y="285"/>
                  <a:pt x="628" y="292"/>
                  <a:pt x="715" y="304"/>
                </a:cubicBezTo>
                <a:cubicBezTo>
                  <a:pt x="1102" y="352"/>
                  <a:pt x="994" y="339"/>
                  <a:pt x="1050" y="345"/>
                </a:cubicBezTo>
                <a:cubicBezTo>
                  <a:pt x="1418" y="355"/>
                  <a:pt x="1310" y="357"/>
                  <a:pt x="1461" y="357"/>
                </a:cubicBezTo>
                <a:cubicBezTo>
                  <a:pt x="1681" y="348"/>
                  <a:pt x="1717" y="348"/>
                  <a:pt x="1860" y="343"/>
                </a:cubicBezTo>
                <a:cubicBezTo>
                  <a:pt x="2208" y="322"/>
                  <a:pt x="2073" y="318"/>
                  <a:pt x="2204" y="301"/>
                </a:cubicBezTo>
                <a:cubicBezTo>
                  <a:pt x="2608" y="227"/>
                  <a:pt x="2569" y="242"/>
                  <a:pt x="2699" y="216"/>
                </a:cubicBezTo>
                <a:lnTo>
                  <a:pt x="2991" y="147"/>
                </a:lnTo>
                <a:lnTo>
                  <a:pt x="3322" y="85"/>
                </a:lnTo>
                <a:lnTo>
                  <a:pt x="3709" y="35"/>
                </a:lnTo>
                <a:lnTo>
                  <a:pt x="4008" y="6"/>
                </a:lnTo>
                <a:lnTo>
                  <a:pt x="4443" y="0"/>
                </a:lnTo>
                <a:lnTo>
                  <a:pt x="4806" y="26"/>
                </a:lnTo>
                <a:lnTo>
                  <a:pt x="5169" y="70"/>
                </a:lnTo>
                <a:lnTo>
                  <a:pt x="5513" y="126"/>
                </a:lnTo>
                <a:lnTo>
                  <a:pt x="5763" y="166"/>
                </a:lnTo>
                <a:lnTo>
                  <a:pt x="5764" y="585"/>
                </a:lnTo>
                <a:lnTo>
                  <a:pt x="2900" y="585"/>
                </a:lnTo>
                <a:lnTo>
                  <a:pt x="0" y="585"/>
                </a:lnTo>
                <a:lnTo>
                  <a:pt x="2" y="170"/>
                </a:lnTo>
                <a:close/>
              </a:path>
            </a:pathLst>
          </a:cu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FB6-CD3F-4326-9272-37CCD3728B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5929200"/>
            <a:ext cx="9150480" cy="9288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764" h="585">
                <a:moveTo>
                  <a:pt x="2" y="170"/>
                </a:moveTo>
                <a:cubicBezTo>
                  <a:pt x="278" y="222"/>
                  <a:pt x="166" y="208"/>
                  <a:pt x="277" y="228"/>
                </a:cubicBezTo>
                <a:cubicBezTo>
                  <a:pt x="387" y="245"/>
                  <a:pt x="456" y="260"/>
                  <a:pt x="529" y="272"/>
                </a:cubicBezTo>
                <a:cubicBezTo>
                  <a:pt x="601" y="285"/>
                  <a:pt x="628" y="292"/>
                  <a:pt x="715" y="304"/>
                </a:cubicBezTo>
                <a:cubicBezTo>
                  <a:pt x="1102" y="352"/>
                  <a:pt x="994" y="339"/>
                  <a:pt x="1050" y="345"/>
                </a:cubicBezTo>
                <a:cubicBezTo>
                  <a:pt x="1418" y="355"/>
                  <a:pt x="1310" y="357"/>
                  <a:pt x="1461" y="357"/>
                </a:cubicBezTo>
                <a:cubicBezTo>
                  <a:pt x="1681" y="348"/>
                  <a:pt x="1717" y="348"/>
                  <a:pt x="1860" y="343"/>
                </a:cubicBezTo>
                <a:cubicBezTo>
                  <a:pt x="2208" y="322"/>
                  <a:pt x="2073" y="318"/>
                  <a:pt x="2204" y="301"/>
                </a:cubicBezTo>
                <a:cubicBezTo>
                  <a:pt x="2608" y="227"/>
                  <a:pt x="2569" y="242"/>
                  <a:pt x="2699" y="216"/>
                </a:cubicBezTo>
                <a:lnTo>
                  <a:pt x="2991" y="147"/>
                </a:lnTo>
                <a:lnTo>
                  <a:pt x="3322" y="85"/>
                </a:lnTo>
                <a:lnTo>
                  <a:pt x="3709" y="35"/>
                </a:lnTo>
                <a:lnTo>
                  <a:pt x="4008" y="6"/>
                </a:lnTo>
                <a:lnTo>
                  <a:pt x="4443" y="0"/>
                </a:lnTo>
                <a:lnTo>
                  <a:pt x="4806" y="26"/>
                </a:lnTo>
                <a:lnTo>
                  <a:pt x="5169" y="70"/>
                </a:lnTo>
                <a:lnTo>
                  <a:pt x="5513" y="126"/>
                </a:lnTo>
                <a:lnTo>
                  <a:pt x="5763" y="166"/>
                </a:lnTo>
                <a:lnTo>
                  <a:pt x="5764" y="585"/>
                </a:lnTo>
                <a:lnTo>
                  <a:pt x="2900" y="585"/>
                </a:lnTo>
                <a:lnTo>
                  <a:pt x="0" y="585"/>
                </a:lnTo>
                <a:lnTo>
                  <a:pt x="2" y="170"/>
                </a:lnTo>
                <a:close/>
              </a:path>
            </a:pathLst>
          </a:cu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401760" y="222120"/>
            <a:ext cx="5155920" cy="3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C90-73EB-4605-B370-68A515165A8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6440" y="4017960"/>
            <a:ext cx="833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rk Penson &amp; Steven Bastow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6440" y="1522440"/>
            <a:ext cx="833112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b90"/>
                </a:solidFill>
                <a:latin typeface="Arial"/>
              </a:rPr>
              <a:t>Kingston University, Student Experience and Employability</a:t>
            </a:r>
            <a:endParaRPr b="1" lang="en-US" sz="33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Employabilit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b9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3b90"/>
                </a:solidFill>
                <a:latin typeface="Arial"/>
              </a:rPr>
              <a:t>To provide students with the key skills, other employment skills and appropriate support to gain good employment” (KU Strategic Plan 09 –13)</a:t>
            </a: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b90"/>
                </a:solidFill>
                <a:latin typeface="Arial"/>
              </a:rPr>
              <a:t> “</a:t>
            </a:r>
            <a:r>
              <a:rPr b="0" i="1" lang="en-GB" sz="2800" spc="-1" strike="noStrike">
                <a:solidFill>
                  <a:srgbClr val="003b90"/>
                </a:solidFill>
                <a:latin typeface="Arial"/>
              </a:rPr>
              <a:t>It is about learning and the emphasis is less on ‘employ’ and more on </a:t>
            </a:r>
            <a:r>
              <a:rPr b="1" i="1" lang="en-GB" sz="2800" spc="-1" strike="noStrike">
                <a:solidFill>
                  <a:srgbClr val="003b90"/>
                </a:solidFill>
                <a:latin typeface="Arial"/>
              </a:rPr>
              <a:t>‘ability’”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University Pla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6440" y="1125360"/>
            <a:ext cx="8331120" cy="41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mbed employability attributes, job seeking skills and enterprise within subjects / programm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nable student reflection and recording employability skills and achievemen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o provide a robust and proactive Employability service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o provide innovative work experience / volunteering opportuniti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easure employability within the curriculum and the success of its delivery 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32:07Z</dcterms:created>
  <dc:creator>KU04515</dc:creator>
  <dc:description/>
  <dc:language>en-US</dc:language>
  <cp:lastModifiedBy>Dazed N Confused</cp:lastModifiedBy>
  <dcterms:modified xsi:type="dcterms:W3CDTF">2011-04-13T05:20:58Z</dcterms:modified>
  <cp:revision>54</cp:revision>
  <dc:subject/>
  <dc:title>Slide 1</dc:title>
</cp:coreProperties>
</file>