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D8F1-C731-4C12-8FF9-096A1CDD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84E7-8EE9-4914-8B18-78BF378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B408-D9DA-4A85-B437-25E60E73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BB38-F3E7-463C-8971-887F3FA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D94E2-0E02-45FE-A3F9-2F0418AE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CD39E-1AB4-4728-848A-215BCE8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4AEC7-C2CF-4532-B2E5-CAA396A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4DE8C-671E-4E2D-B538-B0FDBE08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F8203-7A3C-4DBF-8DA3-52D8CDE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E30CD-1282-4B5A-AF3E-C0087152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94CAB-EAB7-44E7-A136-224DB2D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D4E2-FE2A-4A90-A984-D6AA924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99A42-F0C6-420D-AC8A-2C5CAAA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19259-BCE2-4194-81C2-8F413C1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A37C-C8EE-4712-892F-1D3CF65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CB0CC-46CA-4344-AFB1-30392888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789C2-629B-4F7A-B547-F9E031F2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A378-6CC5-4B18-BC17-64BE365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A15F-F119-4011-A2D8-4F3162A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0F9F-8842-48D0-8B5E-462E6FDA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FABA-B9EA-4B64-AEE6-0D0B6582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3FBA-64DA-4A11-BEC9-DDEB57E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9774-5099-4973-95DA-CBABE13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7DFE-B53A-4372-AD40-9248AF1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4DCD-EBD2-4142-8E40-0EB6529526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C644-FF55-4BAE-9DFC-7D34F53162A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The Development of Masters Programmes at Kingston Univers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key elements of module syllabi expressed here are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Number of credi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Aims and Outco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urriculum cont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 and Learning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ssessment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jor categories of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hysical resources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Staff CV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tails of the management arrangements for the field(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Case Studies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ing a new Masters programme: the A2 document for the MA Language and Societ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Programme Specification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Media and Communic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-mak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 Studie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Introduc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What do you want from this Training Workshop?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0040" y="128556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mental stages at Faculty level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iscussion at B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sultation with H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D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urse proposals must fulfil as many as possible of the following criteria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Verifiable evidence of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bility to attract an enhanced fee and/or international stud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delive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mark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 fit with FASS strategic prior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Universi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cademic Quality and Standards (AQ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partment submits documentation making case for new cours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Outline of the proposed programme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Link to the University and Faculty strategic pla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Projected number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Resource implicatio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cide whether Faculty or University valid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b90"/>
                </a:solidFill>
                <a:latin typeface="Arial"/>
              </a:rPr>
              <a:t>The trend in applications and enrolments (UG and PG)</a:t>
            </a:r>
            <a:endParaRPr b="0" lang="en-US" sz="30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Competitor Analysi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rivers of growth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Student profil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ployer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et Research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lanning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lanning me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ogramme Specification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Directo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eatures of the 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Aim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Learning outcomes, differentiated by full- or half-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nowledge and Understand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Cognitive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Practical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ey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35684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Structur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, Learning &amp;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48:44Z</dcterms:created>
  <dc:creator>KU01577</dc:creator>
  <dc:description/>
  <dc:language>en-US</dc:language>
  <cp:lastModifiedBy>FASS</cp:lastModifiedBy>
  <dcterms:modified xsi:type="dcterms:W3CDTF">2011-04-12T08:48:44Z</dcterms:modified>
  <cp:revision>36</cp:revision>
  <dc:subject/>
  <dc:title>QA for the Development of Masters Programmes</dc:title>
</cp:coreProperties>
</file>