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DD68A8E-D42B-4AE8-A6FE-F0FF96E70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1"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2"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9C5FEC-A80F-4F04-BC4E-78226A4EB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4"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5"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6"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7"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FFC8DBB-F55F-477B-B2AF-B70D778785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9"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0"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1"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2"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3"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4"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BE40882-6AFF-48DF-8D84-C35ACD1B38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BA7B92A-9F1E-4E31-B5A1-917E5B0369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6"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E51D5A6-E667-4672-BAF5-15870DFABE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8"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2DBB59B-C67D-4F78-B32D-B10C2A84B8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0"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1"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FD5BA8A-35B0-45C5-9BB6-5C4BA256D3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924D8C5-D14A-41AA-8638-A2A216EF4E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49876F8-0171-4043-ACF7-148C007E01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5"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6"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7"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9B43C71-7DD1-46DB-BD78-E9A7D4E86E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0"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378D24-9B7F-4C58-BA92-DDC8BE501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9"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0"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1"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7D22BD6-827E-45DF-AADD-A45DEF05E0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3"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5"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3DF08D2-BF3A-41CD-9893-C5B8AAB8EF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7"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8"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AEF3FE5-2B2C-4BF2-83B7-A5A8EEA1E5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0"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1"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2"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3"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7A917F3-643F-44CF-91B7-9019A1ADDA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5"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6"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7"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8"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9"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0"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5FA098D-614C-42C9-8005-C86E1B91658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2BB79A-BE51-4186-BBFE-EA697902E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4"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15"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09EF4B-6FDA-4B66-8F1D-8D32E6DCC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8ED323D-FFB4-4D3B-9AD7-6840D72A5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4BB274-11DE-444E-AD56-1A3F1982E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9"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0"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1"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27FE6A-2AD4-4BCF-8F6C-9BA031A9B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3"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5"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14DE97-9AEB-42F8-A2E2-376C6E967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7"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8"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9"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1158EF-AE4D-4E80-A487-180E606113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2" name="Freeform 4"/>
          <p:cNvSpPr/>
          <p:nvPr/>
        </p:nvSpPr>
        <p:spPr>
          <a:xfrm>
            <a:off x="0" y="5929200"/>
            <a:ext cx="9150480" cy="928800"/>
          </a:xfrm>
          <a:custGeom>
            <a:avLst/>
            <a:gdLst>
              <a:gd name="textAreaLeft" fmla="*/ 0 w 9150480"/>
              <a:gd name="textAreaRight" fmla="*/ 9150840 w 9150480"/>
              <a:gd name="textAreaTop" fmla="*/ 0 h 928800"/>
              <a:gd name="textAreaBottom" fmla="*/ 929160 h 928800"/>
            </a:gdLst>
            <a:ahLst/>
            <a:rect l="textAreaLeft" t="textAreaTop" r="textAreaRight" b="textAreaBottom"/>
            <a:pathLst>
              <a:path w="5764" h="585">
                <a:moveTo>
                  <a:pt x="2" y="170"/>
                </a:moveTo>
                <a:cubicBezTo>
                  <a:pt x="278" y="222"/>
                  <a:pt x="166" y="208"/>
                  <a:pt x="277" y="228"/>
                </a:cubicBezTo>
                <a:cubicBezTo>
                  <a:pt x="387" y="245"/>
                  <a:pt x="456" y="260"/>
                  <a:pt x="529" y="272"/>
                </a:cubicBezTo>
                <a:cubicBezTo>
                  <a:pt x="601" y="285"/>
                  <a:pt x="628" y="292"/>
                  <a:pt x="715" y="304"/>
                </a:cubicBezTo>
                <a:cubicBezTo>
                  <a:pt x="1102" y="352"/>
                  <a:pt x="994" y="339"/>
                  <a:pt x="1050" y="345"/>
                </a:cubicBezTo>
                <a:cubicBezTo>
                  <a:pt x="1418" y="355"/>
                  <a:pt x="1310" y="357"/>
                  <a:pt x="1461" y="357"/>
                </a:cubicBezTo>
                <a:cubicBezTo>
                  <a:pt x="1681" y="348"/>
                  <a:pt x="1717" y="348"/>
                  <a:pt x="1860" y="343"/>
                </a:cubicBezTo>
                <a:cubicBezTo>
                  <a:pt x="2208" y="322"/>
                  <a:pt x="2073" y="318"/>
                  <a:pt x="2204" y="301"/>
                </a:cubicBezTo>
                <a:cubicBezTo>
                  <a:pt x="2608" y="227"/>
                  <a:pt x="2569" y="242"/>
                  <a:pt x="2699" y="216"/>
                </a:cubicBezTo>
                <a:lnTo>
                  <a:pt x="2991" y="147"/>
                </a:lnTo>
                <a:lnTo>
                  <a:pt x="3322" y="85"/>
                </a:lnTo>
                <a:lnTo>
                  <a:pt x="3709" y="35"/>
                </a:lnTo>
                <a:lnTo>
                  <a:pt x="4008" y="6"/>
                </a:lnTo>
                <a:lnTo>
                  <a:pt x="4443" y="0"/>
                </a:lnTo>
                <a:lnTo>
                  <a:pt x="4806" y="26"/>
                </a:lnTo>
                <a:lnTo>
                  <a:pt x="5169" y="70"/>
                </a:lnTo>
                <a:lnTo>
                  <a:pt x="5513" y="126"/>
                </a:lnTo>
                <a:lnTo>
                  <a:pt x="5763" y="166"/>
                </a:lnTo>
                <a:lnTo>
                  <a:pt x="5764" y="585"/>
                </a:lnTo>
                <a:lnTo>
                  <a:pt x="2900" y="585"/>
                </a:lnTo>
                <a:lnTo>
                  <a:pt x="0" y="585"/>
                </a:lnTo>
                <a:lnTo>
                  <a:pt x="2" y="170"/>
                </a:lnTo>
                <a:close/>
              </a:path>
            </a:pathLst>
          </a:custGeom>
          <a:solidFill>
            <a:srgbClr val="003b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 name="Picture 5" descr=""/>
          <p:cNvPicPr/>
          <p:nvPr/>
        </p:nvPicPr>
        <p:blipFill>
          <a:blip r:embed="rId2"/>
          <a:stretch/>
        </p:blipFill>
        <p:spPr>
          <a:xfrm>
            <a:off x="0" y="5586480"/>
            <a:ext cx="9144000" cy="1201680"/>
          </a:xfrm>
          <a:prstGeom prst="rect">
            <a:avLst/>
          </a:prstGeom>
          <a:ln w="0">
            <a:noFill/>
          </a:ln>
        </p:spPr>
      </p:pic>
      <p:sp>
        <p:nvSpPr>
          <p:cNvPr id="4" name="PlaceHolder 3"/>
          <p:cNvSpPr>
            <a:spLocks noGrp="1"/>
          </p:cNvSpPr>
          <p:nvPr>
            <p:ph type="sldNum" idx="1"/>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6BC6-E4F6-40CF-8704-A4A7A8DC2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dt" idx="3"/>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7" name="Picture 9" descr=""/>
          <p:cNvPicPr/>
          <p:nvPr/>
        </p:nvPicPr>
        <p:blipFill>
          <a:blip r:embed="rId3"/>
          <a:stretch/>
        </p:blipFill>
        <p:spPr>
          <a:xfrm>
            <a:off x="5514840" y="6356520"/>
            <a:ext cx="2664000" cy="260280"/>
          </a:xfrm>
          <a:prstGeom prst="rect">
            <a:avLst/>
          </a:prstGeom>
          <a:ln w="0">
            <a:noFill/>
          </a:ln>
        </p:spPr>
      </p:pic>
      <p:sp>
        <p:nvSpPr>
          <p:cNvPr id="8" name="Rectangle 10"/>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2"/>
          <p:cNvSpPr/>
          <p:nvPr/>
        </p:nvSpPr>
        <p:spPr>
          <a:xfrm>
            <a:off x="0" y="5929200"/>
            <a:ext cx="9150480" cy="928800"/>
          </a:xfrm>
          <a:custGeom>
            <a:avLst/>
            <a:gdLst>
              <a:gd name="textAreaLeft" fmla="*/ 0 w 9150480"/>
              <a:gd name="textAreaRight" fmla="*/ 9150840 w 9150480"/>
              <a:gd name="textAreaTop" fmla="*/ 0 h 928800"/>
              <a:gd name="textAreaBottom" fmla="*/ 929160 h 928800"/>
            </a:gdLst>
            <a:ahLst/>
            <a:rect l="textAreaLeft" t="textAreaTop" r="textAreaRight" b="textAreaBottom"/>
            <a:pathLst>
              <a:path w="5764" h="585">
                <a:moveTo>
                  <a:pt x="2" y="170"/>
                </a:moveTo>
                <a:cubicBezTo>
                  <a:pt x="278" y="222"/>
                  <a:pt x="166" y="208"/>
                  <a:pt x="277" y="228"/>
                </a:cubicBezTo>
                <a:cubicBezTo>
                  <a:pt x="387" y="245"/>
                  <a:pt x="456" y="260"/>
                  <a:pt x="529" y="272"/>
                </a:cubicBezTo>
                <a:cubicBezTo>
                  <a:pt x="601" y="285"/>
                  <a:pt x="628" y="292"/>
                  <a:pt x="715" y="304"/>
                </a:cubicBezTo>
                <a:cubicBezTo>
                  <a:pt x="1102" y="352"/>
                  <a:pt x="994" y="339"/>
                  <a:pt x="1050" y="345"/>
                </a:cubicBezTo>
                <a:cubicBezTo>
                  <a:pt x="1418" y="355"/>
                  <a:pt x="1310" y="357"/>
                  <a:pt x="1461" y="357"/>
                </a:cubicBezTo>
                <a:cubicBezTo>
                  <a:pt x="1681" y="348"/>
                  <a:pt x="1717" y="348"/>
                  <a:pt x="1860" y="343"/>
                </a:cubicBezTo>
                <a:cubicBezTo>
                  <a:pt x="2208" y="322"/>
                  <a:pt x="2073" y="318"/>
                  <a:pt x="2204" y="301"/>
                </a:cubicBezTo>
                <a:cubicBezTo>
                  <a:pt x="2608" y="227"/>
                  <a:pt x="2569" y="242"/>
                  <a:pt x="2699" y="216"/>
                </a:cubicBezTo>
                <a:lnTo>
                  <a:pt x="2991" y="147"/>
                </a:lnTo>
                <a:lnTo>
                  <a:pt x="3322" y="85"/>
                </a:lnTo>
                <a:lnTo>
                  <a:pt x="3709" y="35"/>
                </a:lnTo>
                <a:lnTo>
                  <a:pt x="4008" y="6"/>
                </a:lnTo>
                <a:lnTo>
                  <a:pt x="4443" y="0"/>
                </a:lnTo>
                <a:lnTo>
                  <a:pt x="4806" y="26"/>
                </a:lnTo>
                <a:lnTo>
                  <a:pt x="5169" y="70"/>
                </a:lnTo>
                <a:lnTo>
                  <a:pt x="5513" y="126"/>
                </a:lnTo>
                <a:lnTo>
                  <a:pt x="5763" y="166"/>
                </a:lnTo>
                <a:lnTo>
                  <a:pt x="5764" y="585"/>
                </a:lnTo>
                <a:lnTo>
                  <a:pt x="2900" y="585"/>
                </a:lnTo>
                <a:lnTo>
                  <a:pt x="0" y="585"/>
                </a:lnTo>
                <a:lnTo>
                  <a:pt x="2" y="170"/>
                </a:lnTo>
                <a:close/>
              </a:path>
            </a:pathLst>
          </a:custGeom>
          <a:solidFill>
            <a:srgbClr val="003b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
          <p:cNvPicPr/>
          <p:nvPr/>
        </p:nvPicPr>
        <p:blipFill>
          <a:blip r:embed="rId2"/>
          <a:stretch/>
        </p:blipFill>
        <p:spPr>
          <a:xfrm>
            <a:off x="0" y="5586480"/>
            <a:ext cx="9144000" cy="1201680"/>
          </a:xfrm>
          <a:prstGeom prst="rect">
            <a:avLst/>
          </a:prstGeom>
          <a:ln w="0">
            <a:noFill/>
          </a:ln>
        </p:spPr>
      </p:pic>
      <p:pic>
        <p:nvPicPr>
          <p:cNvPr id="47" name="Picture 7" descr=""/>
          <p:cNvPicPr/>
          <p:nvPr/>
        </p:nvPicPr>
        <p:blipFill>
          <a:blip r:embed="rId3"/>
          <a:stretch/>
        </p:blipFill>
        <p:spPr>
          <a:xfrm>
            <a:off x="5514840" y="6356520"/>
            <a:ext cx="2664000" cy="260280"/>
          </a:xfrm>
          <a:prstGeom prst="rect">
            <a:avLst/>
          </a:prstGeom>
          <a:ln w="0">
            <a:noFill/>
          </a:ln>
        </p:spPr>
      </p:pic>
      <p:sp>
        <p:nvSpPr>
          <p:cNvPr id="48" name="Rectangle 8"/>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 name="Picture 11" descr=""/>
          <p:cNvPicPr/>
          <p:nvPr/>
        </p:nvPicPr>
        <p:blipFill>
          <a:blip r:embed="rId4"/>
          <a:stretch/>
        </p:blipFill>
        <p:spPr>
          <a:xfrm>
            <a:off x="401760" y="222120"/>
            <a:ext cx="5155920" cy="385920"/>
          </a:xfrm>
          <a:prstGeom prst="rect">
            <a:avLst/>
          </a:prstGeom>
          <a:ln w="0">
            <a:noFill/>
          </a:ln>
        </p:spPr>
      </p:pic>
      <p:sp>
        <p:nvSpPr>
          <p:cNvPr id="5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5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52" name="PlaceHolder 3"/>
          <p:cNvSpPr>
            <a:spLocks noGrp="1"/>
          </p:cNvSpPr>
          <p:nvPr>
            <p:ph type="sldNum" idx="4"/>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C418-5960-4D39-8789-D37423ED3254}"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dt" idx="6"/>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06440" y="4017960"/>
            <a:ext cx="8331120" cy="12952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ark Penson &amp; Steve Bastow</a:t>
            </a:r>
            <a:endParaRPr b="0" lang="en-US" sz="2800" spc="-1" strike="noStrike">
              <a:solidFill>
                <a:srgbClr val="003b90"/>
              </a:solidFill>
              <a:latin typeface="Arial"/>
            </a:endParaRPr>
          </a:p>
        </p:txBody>
      </p:sp>
      <p:sp>
        <p:nvSpPr>
          <p:cNvPr id="92" name="PlaceHolder 2"/>
          <p:cNvSpPr>
            <a:spLocks noGrp="1"/>
          </p:cNvSpPr>
          <p:nvPr>
            <p:ph type="title"/>
          </p:nvPr>
        </p:nvSpPr>
        <p:spPr>
          <a:xfrm>
            <a:off x="406440" y="1522440"/>
            <a:ext cx="8331120" cy="204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3b90"/>
                </a:solidFill>
                <a:latin typeface="Arial"/>
              </a:rPr>
              <a:t>Balancing the curriculum</a:t>
            </a:r>
            <a:endParaRPr b="1" lang="en-US" sz="3300" spc="-1" strike="noStrike">
              <a:solidFill>
                <a:srgbClr val="003b9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GB" sz="2900" spc="-1" strike="noStrike">
                <a:solidFill>
                  <a:srgbClr val="003b90"/>
                </a:solidFill>
                <a:latin typeface="Arial"/>
              </a:rPr>
              <a:t>Case Study: Where is the core?</a:t>
            </a:r>
            <a:endParaRPr b="1" lang="en-US" sz="2900" spc="-1" strike="noStrike">
              <a:solidFill>
                <a:srgbClr val="003b90"/>
              </a:solidFill>
              <a:latin typeface="Arial"/>
            </a:endParaRPr>
          </a:p>
        </p:txBody>
      </p:sp>
      <p:graphicFrame>
        <p:nvGraphicFramePr>
          <p:cNvPr id="113" name=""/>
          <p:cNvGraphicFramePr/>
          <p:nvPr/>
        </p:nvGraphicFramePr>
        <p:xfrm>
          <a:off x="395280" y="1343160"/>
          <a:ext cx="8342280" cy="3789360"/>
        </p:xfrm>
        <a:graphic>
          <a:graphicData uri="http://schemas.openxmlformats.org/drawingml/2006/table">
            <a:tbl>
              <a:tblPr/>
              <a:tblGrid>
                <a:gridCol w="2232000"/>
                <a:gridCol w="3333960"/>
                <a:gridCol w="2776320"/>
              </a:tblGrid>
              <a:tr h="370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dule Cod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dule Titl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redit Valu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1</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3</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Ethnicity and  Identi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6</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Power and Inequality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6864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pecial Study: 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tion from MA in cognate area)</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tion from MA in cognate area)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graphicFrame>
        <p:nvGraphicFramePr>
          <p:cNvPr id="114" name=""/>
          <p:cNvGraphicFramePr/>
          <p:nvPr/>
        </p:nvGraphicFramePr>
        <p:xfrm>
          <a:off x="395280" y="1700280"/>
          <a:ext cx="8342280" cy="609480"/>
        </p:xfrm>
        <a:graphic>
          <a:graphicData uri="http://schemas.openxmlformats.org/drawingml/2006/table">
            <a:tbl>
              <a:tblPr/>
              <a:tblGrid>
                <a:gridCol w="2232000"/>
                <a:gridCol w="3333960"/>
                <a:gridCol w="2776320"/>
              </a:tblGrid>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LGM401 </a:t>
                      </a:r>
                      <a:r>
                        <a:rPr b="0" i="1" lang="en-GB" sz="2000" spc="-1" strike="noStrike">
                          <a:solidFill>
                            <a:srgbClr val="000000"/>
                          </a:solidFill>
                          <a:latin typeface="Arial"/>
                          <a:ea typeface="Times New Roman"/>
                        </a:rPr>
                        <a:t>core/no experienc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bl>
          </a:graphicData>
        </a:graphic>
      </p:graphicFrame>
      <p:graphicFrame>
        <p:nvGraphicFramePr>
          <p:cNvPr id="115" name=""/>
          <p:cNvGraphicFramePr/>
          <p:nvPr/>
        </p:nvGraphicFramePr>
        <p:xfrm>
          <a:off x="395280" y="1700280"/>
          <a:ext cx="8342280" cy="1828800"/>
        </p:xfrm>
        <a:graphic>
          <a:graphicData uri="http://schemas.openxmlformats.org/drawingml/2006/table">
            <a:tbl>
              <a:tblPr/>
              <a:tblGrid>
                <a:gridCol w="2232000"/>
                <a:gridCol w="3333960"/>
                <a:gridCol w="2776320"/>
              </a:tblGrid>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LGM401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3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Ethnicity and  Identi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6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Power and Inequality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spTree>
  </p:cSld>
  <p:transition spd="med">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4"/>
                                        </p:tgtEl>
                                        <p:attrNameLst>
                                          <p:attrName>style.visibility</p:attrName>
                                        </p:attrNameLst>
                                      </p:cBhvr>
                                      <p:to>
                                        <p:strVal val="visible"/>
                                      </p:to>
                                    </p:set>
                                    <p:animEffect filter="wipe(left)" transition="in">
                                      <p:cBhvr additive="repl">
                                        <p:cTn id="13" dur="5000"/>
                                        <p:tgtEl>
                                          <p:spTgt spid="11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15"/>
                                        </p:tgtEl>
                                        <p:attrNameLst>
                                          <p:attrName>style.visibility</p:attrName>
                                        </p:attrNameLst>
                                      </p:cBhvr>
                                      <p:to>
                                        <p:strVal val="visible"/>
                                      </p:to>
                                    </p:set>
                                    <p:animEffect filter="wipe(left)" transition="in">
                                      <p:cBhvr additive="repl">
                                        <p:cTn id="18" dur="5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1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learning hours per credi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U: 20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Germany: 24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36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or a 6 credit module at SFU, students should have 216 hours of learning</a:t>
            </a:r>
            <a:endParaRPr b="0" lang="en-US" sz="2600" spc="-1" strike="noStrike">
              <a:solidFill>
                <a:srgbClr val="003b9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19"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lass contac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is supposed to follow the Ministry of Education rule that students do no more than 14 hours of class contact per week, so the Department needs to make sure that the total number of modules taken by a student on average across a semester don’t breach this.</a:t>
            </a:r>
            <a:endParaRPr b="0" lang="en-US" sz="2600" spc="-1" strike="noStrike">
              <a:solidFill>
                <a:srgbClr val="003b9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1" name=""/>
          <p:cNvSpPr txBox="1"/>
          <p:nvPr/>
        </p:nvSpPr>
        <p:spPr>
          <a:xfrm>
            <a:off x="406440" y="1342800"/>
            <a:ext cx="8331120" cy="3963960"/>
          </a:xfrm>
          <a:prstGeom prst="rect">
            <a:avLst/>
          </a:prstGeom>
          <a:noFill/>
          <a:ln w="0">
            <a:noFill/>
          </a:ln>
        </p:spPr>
        <p:txBody>
          <a:bodyPr lIns="90000" rIns="90000" tIns="46800" bIns="46800" anchor="t">
            <a:normAutofit/>
          </a:bodyPr>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t KU the norm in FASS varies between 8 and 15 hours</a:t>
            </a:r>
            <a:endParaRPr b="0" lang="en-US" sz="2600" spc="-1" strike="noStrike">
              <a:solidFill>
                <a:srgbClr val="003b90"/>
              </a:solidFill>
              <a:latin typeface="Arial"/>
            </a:endParaRPr>
          </a:p>
          <a:p>
            <a:pPr lvl="1"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Laboratory/Studio based courses tend towards 12-15</a:t>
            </a: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Classroom based 8-12</a:t>
            </a:r>
            <a:endParaRPr b="0" lang="en-US" sz="26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23"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Independent learning: this is what is left when class contact is deducted from the total number of learning hours per module (which depends on the number of credits it has been validated as having)</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in the module? This is a crucial factor in determining the above.</a:t>
            </a:r>
            <a:endParaRPr b="0" lang="en-US" sz="2800" spc="-1" strike="noStrike">
              <a:solidFill>
                <a:srgbClr val="003b9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3840" y="-7128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25"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eight of assessmen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The need to have common rules concerning the amount of assessment per standard-sized module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ormative versus summative assessmen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void vagueness in syllabi</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void over-assessing</a:t>
            </a:r>
            <a:endParaRPr b="0" lang="en-US" sz="26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Validation Mapping Exercise Assessment</a:t>
            </a:r>
            <a:endParaRPr b="1" lang="en-US" sz="2900" spc="-1" strike="noStrike">
              <a:solidFill>
                <a:srgbClr val="003b90"/>
              </a:solidFill>
              <a:latin typeface="Arial"/>
            </a:endParaRPr>
          </a:p>
        </p:txBody>
      </p:sp>
      <p:sp>
        <p:nvSpPr>
          <p:cNvPr id="127" name=""/>
          <p:cNvSpPr txBox="1"/>
          <p:nvPr/>
        </p:nvSpPr>
        <p:spPr>
          <a:xfrm>
            <a:off x="0" y="2997000"/>
            <a:ext cx="6192720" cy="3384360"/>
          </a:xfrm>
          <a:prstGeom prst="rect">
            <a:avLst/>
          </a:prstGeom>
          <a:noFill/>
          <a:ln w="0">
            <a:noFill/>
          </a:ln>
        </p:spPr>
        <p:txBody>
          <a:bodyPr lIns="90000" rIns="90000" tIns="46800" bIns="46800"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verall load &amp; Balance </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ximise student output</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tilise resources/infrastructure effectively  </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ow time for ‘mindfulness’</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nus 1: improved assessment quality</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nus 2: easier marking/feedback</a:t>
            </a: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p:txBody>
      </p:sp>
      <p:graphicFrame>
        <p:nvGraphicFramePr>
          <p:cNvPr id="128" name=""/>
          <p:cNvGraphicFramePr/>
          <p:nvPr/>
        </p:nvGraphicFramePr>
        <p:xfrm>
          <a:off x="250920" y="1125360"/>
          <a:ext cx="8642160" cy="2303640"/>
        </p:xfrm>
        <a:graphic>
          <a:graphicData uri="http://schemas.openxmlformats.org/drawingml/2006/table">
            <a:tbl>
              <a:tblPr/>
              <a:tblGrid>
                <a:gridCol w="1368360"/>
                <a:gridCol w="1152360"/>
                <a:gridCol w="1182960"/>
                <a:gridCol w="1234800"/>
                <a:gridCol w="1233720"/>
                <a:gridCol w="1235160"/>
                <a:gridCol w="1234800"/>
              </a:tblGrid>
              <a:tr h="525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mester 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2 </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553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The types of assessment methods </a:t>
            </a:r>
            <a:endParaRPr b="1" lang="en-US" sz="2900" spc="-1" strike="noStrike">
              <a:solidFill>
                <a:srgbClr val="003b90"/>
              </a:solidFill>
              <a:latin typeface="Arial"/>
            </a:endParaRPr>
          </a:p>
        </p:txBody>
      </p:sp>
      <p:sp>
        <p:nvSpPr>
          <p:cNvPr id="130" name=""/>
          <p:cNvSpPr txBox="1"/>
          <p:nvPr/>
        </p:nvSpPr>
        <p:spPr>
          <a:xfrm>
            <a:off x="406440" y="1343160"/>
            <a:ext cx="8331120" cy="4030560"/>
          </a:xfrm>
          <a:prstGeom prst="rect">
            <a:avLst/>
          </a:prstGeom>
          <a:noFill/>
          <a:ln w="0">
            <a:noFill/>
          </a:ln>
        </p:spPr>
        <p:txBody>
          <a:bodyPr lIns="90000" rIns="90000" tIns="46800" bIns="46800" anchor="t">
            <a:normAutofit fontScale="95000"/>
          </a:bodyPr>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emonstrates Range of Methods </a:t>
            </a: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ssists Development of Academic &amp; Employability Skills </a:t>
            </a: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ids Quality Assurance &amp; Enhancement (Thursday)</a:t>
            </a:r>
            <a:endParaRPr b="0" lang="en-US" sz="2600" spc="-1" strike="noStrike">
              <a:solidFill>
                <a:srgbClr val="003b90"/>
              </a:solidFill>
              <a:latin typeface="Arial"/>
            </a:endParaRPr>
          </a:p>
        </p:txBody>
      </p:sp>
      <p:graphicFrame>
        <p:nvGraphicFramePr>
          <p:cNvPr id="131" name=""/>
          <p:cNvGraphicFramePr/>
          <p:nvPr/>
        </p:nvGraphicFramePr>
        <p:xfrm>
          <a:off x="468360" y="1125360"/>
          <a:ext cx="8280360" cy="2401920"/>
        </p:xfrm>
        <a:graphic>
          <a:graphicData uri="http://schemas.openxmlformats.org/drawingml/2006/table">
            <a:tbl>
              <a:tblPr/>
              <a:tblGrid>
                <a:gridCol w="1655640"/>
                <a:gridCol w="1656000"/>
                <a:gridCol w="1655640"/>
                <a:gridCol w="1657440"/>
                <a:gridCol w="1655640"/>
              </a:tblGrid>
              <a:tr h="370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ssay</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6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resentation</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Group projec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xamination</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490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Study/Repor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the structure</a:t>
            </a:r>
            <a:endParaRPr b="1" lang="en-US" sz="2900" spc="-1" strike="noStrike">
              <a:solidFill>
                <a:srgbClr val="003b90"/>
              </a:solidFill>
              <a:latin typeface="Arial"/>
            </a:endParaRPr>
          </a:p>
        </p:txBody>
      </p:sp>
      <p:sp>
        <p:nvSpPr>
          <p:cNvPr id="94" name=""/>
          <p:cNvSpPr txBox="1"/>
          <p:nvPr/>
        </p:nvSpPr>
        <p:spPr>
          <a:xfrm>
            <a:off x="406440" y="1125360"/>
            <a:ext cx="8331120" cy="41817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per semester?</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ingston: 60:60:60 (CATS). Up to 75 in any one semester allowed, but frowned upon</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30 credits (equivalent to 60 CATS): 30:30:30:30</a:t>
            </a:r>
            <a:endParaRPr b="0" lang="en-US" sz="26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p:txBody>
      </p:sp>
      <p:graphicFrame>
        <p:nvGraphicFramePr>
          <p:cNvPr id="95" name=""/>
          <p:cNvGraphicFramePr/>
          <p:nvPr/>
        </p:nvGraphicFramePr>
        <p:xfrm>
          <a:off x="395280" y="3716280"/>
          <a:ext cx="8424720" cy="1752480"/>
        </p:xfrm>
        <a:graphic>
          <a:graphicData uri="http://schemas.openxmlformats.org/drawingml/2006/table">
            <a:tbl>
              <a:tblPr/>
              <a:tblGrid>
                <a:gridCol w="1297080"/>
                <a:gridCol w="1439640"/>
                <a:gridCol w="1368720"/>
                <a:gridCol w="1439640"/>
                <a:gridCol w="1368360"/>
                <a:gridCol w="15112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stitu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tal ECTS/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0/2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1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U (P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the structure</a:t>
            </a:r>
            <a:endParaRPr b="1" lang="en-US" sz="2900" spc="-1" strike="noStrike">
              <a:solidFill>
                <a:srgbClr val="003b90"/>
              </a:solidFill>
              <a:latin typeface="Arial"/>
            </a:endParaRPr>
          </a:p>
        </p:txBody>
      </p:sp>
      <p:sp>
        <p:nvSpPr>
          <p:cNvPr id="9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per module?</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ingston: norm is 15 or 30 credits, but 7.5 credit modules are not unknown</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6 credits (12 CATS)?</a:t>
            </a:r>
            <a:endParaRPr b="0" lang="en-US" sz="2600" spc="-1" strike="noStrike">
              <a:solidFill>
                <a:srgbClr val="003b9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How many modules are core?</a:t>
            </a:r>
            <a:endParaRPr b="1" lang="en-US" sz="2900" spc="-1" strike="noStrike">
              <a:solidFill>
                <a:srgbClr val="003b90"/>
              </a:solidFill>
              <a:latin typeface="Arial"/>
            </a:endParaRPr>
          </a:p>
        </p:txBody>
      </p:sp>
      <p:sp>
        <p:nvSpPr>
          <p:cNvPr id="99" name=""/>
          <p:cNvSpPr txBox="1"/>
          <p:nvPr/>
        </p:nvSpPr>
        <p:spPr>
          <a:xfrm>
            <a:off x="395280" y="105228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0" name=""/>
          <p:cNvGraphicFramePr/>
          <p:nvPr/>
        </p:nvGraphicFramePr>
        <p:xfrm>
          <a:off x="324000" y="1125360"/>
          <a:ext cx="8496000" cy="4416480"/>
        </p:xfrm>
        <a:graphic>
          <a:graphicData uri="http://schemas.openxmlformats.org/drawingml/2006/table">
            <a:tbl>
              <a:tblPr/>
              <a:tblGrid>
                <a:gridCol w="1800000"/>
                <a:gridCol w="3863880"/>
                <a:gridCol w="283212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A Media Communication</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6600cc"/>
                          </a:solidFill>
                          <a:uFillTx/>
                          <a:latin typeface="Arial"/>
                          <a:hlinkClick r:id="rId1" action="ppaction://hlinksldjump"/>
                        </a:rPr>
                        <a:t>CATS/E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92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izing Media and Communication 1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izing Media and Communication 2</a:t>
                      </a:r>
                      <a:r>
                        <a:rPr b="1" lang="en-GB" sz="2000" spc="-1" strike="noStrike">
                          <a:solidFill>
                            <a:srgbClr val="000000"/>
                          </a:solidFill>
                          <a:latin typeface="Arial"/>
                        </a:rPr>
                        <a:t>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92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ultural Communication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Methods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3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rt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How many modules are core?</a:t>
            </a:r>
            <a:endParaRPr b="1" lang="en-US" sz="2900" spc="-1" strike="noStrike">
              <a:solidFill>
                <a:srgbClr val="003b90"/>
              </a:solidFill>
              <a:latin typeface="Arial"/>
            </a:endParaRPr>
          </a:p>
        </p:txBody>
      </p:sp>
      <p:sp>
        <p:nvSpPr>
          <p:cNvPr id="102" name=""/>
          <p:cNvSpPr txBox="1"/>
          <p:nvPr/>
        </p:nvSpPr>
        <p:spPr>
          <a:xfrm>
            <a:off x="395280" y="105228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3" name=""/>
          <p:cNvGraphicFramePr/>
          <p:nvPr/>
        </p:nvGraphicFramePr>
        <p:xfrm>
          <a:off x="324000" y="1341360"/>
          <a:ext cx="8496000" cy="4399200"/>
        </p:xfrm>
        <a:graphic>
          <a:graphicData uri="http://schemas.openxmlformats.org/drawingml/2006/table">
            <a:tbl>
              <a:tblPr/>
              <a:tblGrid>
                <a:gridCol w="1800000"/>
                <a:gridCol w="3863880"/>
                <a:gridCol w="283212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A  Filmmakin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S/E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92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ing films  </a:t>
                      </a:r>
                      <a:r>
                        <a:rPr b="1" lang="en-GB" sz="1800" spc="-1" strike="noStrike">
                          <a:solidFill>
                            <a:srgbClr val="000000"/>
                          </a:solidFill>
                          <a:latin typeface="Arial"/>
                        </a:rPr>
                        <a:t>no experie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73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iet Pictures </a:t>
                      </a:r>
                      <a:r>
                        <a:rPr b="1" lang="en-GB" sz="1800" spc="-1" strike="noStrike">
                          <a:solidFill>
                            <a:srgbClr val="000000"/>
                          </a:solidFill>
                          <a:latin typeface="Arial"/>
                        </a:rPr>
                        <a:t> experie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on Camera Light </a:t>
                      </a:r>
                      <a:r>
                        <a:rPr b="1" lang="en-GB"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nd System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sions of L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l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cores need to run before options?</a:t>
            </a:r>
            <a:br>
              <a:rPr sz="2900"/>
            </a:br>
            <a:endParaRPr b="1" lang="en-US" sz="2900" spc="-1" strike="noStrike">
              <a:solidFill>
                <a:srgbClr val="003b90"/>
              </a:solidFill>
              <a:latin typeface="Arial"/>
            </a:endParaRPr>
          </a:p>
        </p:txBody>
      </p:sp>
      <p:sp>
        <p:nvSpPr>
          <p:cNvPr id="105"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No examples from Kingston</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hat is your practice?</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Implies 60 ect across semester 1&amp;2</a:t>
            </a:r>
            <a:endParaRPr b="0" lang="en-US" sz="2800" spc="-1" strike="noStrike">
              <a:solidFill>
                <a:srgbClr val="003b9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some cores have other cores as their pre-requisite?</a:t>
            </a:r>
            <a:endParaRPr b="1" lang="en-US" sz="2900" spc="-1" strike="noStrike">
              <a:solidFill>
                <a:srgbClr val="003b90"/>
              </a:solidFill>
              <a:latin typeface="Arial"/>
            </a:endParaRPr>
          </a:p>
        </p:txBody>
      </p:sp>
      <p:sp>
        <p:nvSpPr>
          <p:cNvPr id="10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ee Theorising Media &amp; Communication </a:t>
            </a:r>
            <a:r>
              <a:rPr b="0" lang="en-GB" sz="2800" spc="-1" strike="noStrike" u="sng">
                <a:solidFill>
                  <a:srgbClr val="6600cc"/>
                </a:solidFill>
                <a:uFillTx/>
                <a:latin typeface="Arial"/>
                <a:hlinkClick r:id="rId1" action="ppaction://hlinksldjump"/>
              </a:rPr>
              <a:t>1 &amp; 2</a:t>
            </a:r>
            <a:endParaRPr b="0" lang="en-US" sz="2800" spc="-1" strike="noStrike">
              <a:solidFill>
                <a:srgbClr val="003b9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some cores feed directly into the Specialist Options?</a:t>
            </a:r>
            <a:endParaRPr b="1" lang="en-US" sz="2900" spc="-1" strike="noStrike">
              <a:solidFill>
                <a:srgbClr val="003b90"/>
              </a:solidFill>
              <a:latin typeface="Arial"/>
            </a:endParaRPr>
          </a:p>
        </p:txBody>
      </p:sp>
      <p:sp>
        <p:nvSpPr>
          <p:cNvPr id="109"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ny examples from SfU?</a:t>
            </a:r>
            <a:endParaRPr b="0" lang="en-US" sz="2800" spc="-1" strike="noStrike">
              <a:solidFill>
                <a:srgbClr val="003b9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Examples of Options with Cores prerequisites</a:t>
            </a:r>
            <a:endParaRPr b="1" lang="en-US" sz="2900" spc="-1" strike="noStrike">
              <a:solidFill>
                <a:srgbClr val="003b90"/>
              </a:solidFill>
              <a:latin typeface="Arial"/>
            </a:endParaRPr>
          </a:p>
        </p:txBody>
      </p:sp>
      <p:graphicFrame>
        <p:nvGraphicFramePr>
          <p:cNvPr id="111" name=""/>
          <p:cNvGraphicFramePr/>
          <p:nvPr/>
        </p:nvGraphicFramePr>
        <p:xfrm>
          <a:off x="406440" y="1343160"/>
          <a:ext cx="8331120" cy="1482480"/>
        </p:xfrm>
        <a:graphic>
          <a:graphicData uri="http://schemas.openxmlformats.org/drawingml/2006/table">
            <a:tbl>
              <a:tblPr/>
              <a:tblGrid>
                <a:gridCol w="4165560"/>
                <a:gridCol w="41655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 Design 1 </a:t>
                      </a:r>
                      <a:r>
                        <a:rPr b="1" lang="en-GB" sz="1800" spc="-1" strike="noStrike">
                          <a:solidFill>
                            <a:srgbClr val="000000"/>
                          </a:solidFill>
                          <a:latin typeface="Arial"/>
                        </a:rPr>
                        <a:t>Co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 Design 2 </a:t>
                      </a:r>
                      <a:r>
                        <a:rPr b="1" lang="en-GB" sz="1800" spc="-1" strike="noStrike">
                          <a:solidFill>
                            <a:srgbClr val="000000"/>
                          </a:solidFill>
                          <a:latin typeface="Arial"/>
                        </a:rPr>
                        <a:t>O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5:42:23Z</dcterms:created>
  <dc:creator>FASS</dc:creator>
  <dc:description/>
  <dc:language>en-US</dc:language>
  <cp:lastModifiedBy>Dazed N Confused</cp:lastModifiedBy>
  <dcterms:modified xsi:type="dcterms:W3CDTF">2011-04-14T12:07:16Z</dcterms:modified>
  <cp:revision>46</cp:revision>
  <dc:subject/>
  <dc:title>Balancing the curriculum</dc:title>
</cp:coreProperties>
</file>